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845-9435-4FEC-9E11-212AB0AA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92A-22B8-4A65-B812-F6ADD315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A3D-6FC4-4E65-A3A1-B3D9469C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480-F71C-48FC-A871-5BF3B02E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644-BCEB-462C-8C1F-98D3BFE7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F26-D795-4B88-954C-273AA198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07D-11EE-4EC7-9A74-8AD9CEB4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C4F-FC3D-4794-A163-BF0C9A0D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CD4-F766-4E7E-ACC1-7125B868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5D9-8F20-4C84-9A54-0055BF3F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37F-6347-4848-927C-BBE10D4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8D0-4D10-4AF1-8780-852EBEDF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F04F-1F1D-498B-B38B-826CEE28D23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1" descr="D:\wincad\PCAD2002\CPUPLAZA\홈페이지\작업파일\avr보드\atmega128\ev1\Atmega128_Base_Ev1-02.jpg"/>
          <p:cNvPicPr/>
          <p:nvPr/>
        </p:nvPicPr>
        <p:blipFill>
          <a:blip r:embed="rId1"/>
          <a:stretch/>
        </p:blipFill>
        <p:spPr>
          <a:xfrm>
            <a:off x="2000160" y="271476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08000" y="115920"/>
            <a:ext cx="2863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H/W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성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Picture 61" descr="D:\wincad\PCAD2002\CPUPLAZA\홈페이지\작업파일\avr보드\atmega128\ev1\Atmega128_Base_Ev1-02.jpg"/>
          <p:cNvPicPr/>
          <p:nvPr/>
        </p:nvPicPr>
        <p:blipFill>
          <a:blip r:embed="rId2"/>
          <a:stretch/>
        </p:blipFill>
        <p:spPr>
          <a:xfrm>
            <a:off x="4071960" y="414324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1" descr="D:\wincad\PCAD2002\CPUPLAZA\홈페이지\작업파일\avr보드\atmega128\ev1\Atmega128_Base_Ev1-02.jpg"/>
          <p:cNvPicPr/>
          <p:nvPr/>
        </p:nvPicPr>
        <p:blipFill>
          <a:blip r:embed="rId3"/>
          <a:stretch/>
        </p:blipFill>
        <p:spPr>
          <a:xfrm>
            <a:off x="6357960" y="4143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5" name="직선 연결선 7"/>
          <p:cNvSpPr/>
          <p:nvPr/>
        </p:nvSpPr>
        <p:spPr>
          <a:xfrm>
            <a:off x="3357720" y="3214800"/>
            <a:ext cx="5000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선 연결선 8"/>
          <p:cNvSpPr/>
          <p:nvPr/>
        </p:nvSpPr>
        <p:spPr>
          <a:xfrm>
            <a:off x="3357720" y="3355920"/>
            <a:ext cx="5000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선 연결선 9"/>
          <p:cNvSpPr/>
          <p:nvPr/>
        </p:nvSpPr>
        <p:spPr>
          <a:xfrm flipV="1">
            <a:off x="4642560" y="3214800"/>
            <a:ext cx="180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직선 연결선 10"/>
          <p:cNvSpPr/>
          <p:nvPr/>
        </p:nvSpPr>
        <p:spPr>
          <a:xfrm flipV="1">
            <a:off x="4714920" y="3358800"/>
            <a:ext cx="1440" cy="9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선 연결선 11"/>
          <p:cNvSpPr/>
          <p:nvPr/>
        </p:nvSpPr>
        <p:spPr>
          <a:xfrm flipV="1">
            <a:off x="6928560" y="3214800"/>
            <a:ext cx="180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직선 연결선 12"/>
          <p:cNvSpPr/>
          <p:nvPr/>
        </p:nvSpPr>
        <p:spPr>
          <a:xfrm flipV="1">
            <a:off x="7000920" y="3357360"/>
            <a:ext cx="144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3368880" y="304488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RX+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3390480" y="3191040"/>
            <a:ext cx="39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RX-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297680" y="40593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RX+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4666680" y="4059360"/>
            <a:ext cx="39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RX-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6571080" y="40593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RX+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30"/>
          <p:cNvSpPr/>
          <p:nvPr/>
        </p:nvSpPr>
        <p:spPr>
          <a:xfrm>
            <a:off x="6952680" y="4060800"/>
            <a:ext cx="39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RX-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31"/>
          <p:cNvSpPr/>
          <p:nvPr/>
        </p:nvSpPr>
        <p:spPr>
          <a:xfrm>
            <a:off x="3857760" y="5199120"/>
            <a:ext cx="64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AVE 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2286000" y="2857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드 넘버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‘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Master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Box 44"/>
          <p:cNvSpPr/>
          <p:nvPr/>
        </p:nvSpPr>
        <p:spPr>
          <a:xfrm>
            <a:off x="4214880" y="5500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부 카운터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“0000”-”9999”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45"/>
          <p:cNvSpPr/>
          <p:nvPr/>
        </p:nvSpPr>
        <p:spPr>
          <a:xfrm>
            <a:off x="6500880" y="5500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부 카운터</a:t>
            </a:r>
            <a:r>
              <a:rPr b="1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“0000”-”9999”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336" descr="컴퓨터"/>
          <p:cNvPicPr/>
          <p:nvPr/>
        </p:nvPicPr>
        <p:blipFill>
          <a:blip r:embed="rId4"/>
          <a:stretch/>
        </p:blipFill>
        <p:spPr>
          <a:xfrm>
            <a:off x="642960" y="3143160"/>
            <a:ext cx="792000" cy="671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3"/>
          <p:cNvSpPr/>
          <p:nvPr/>
        </p:nvSpPr>
        <p:spPr>
          <a:xfrm>
            <a:off x="1214280" y="34290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9200/N/8/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Box 54"/>
          <p:cNvSpPr/>
          <p:nvPr/>
        </p:nvSpPr>
        <p:spPr>
          <a:xfrm>
            <a:off x="1500120" y="3198960"/>
            <a:ext cx="64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S-23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476280"/>
            <a:ext cx="8034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요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tmega128_Base_Ev1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v2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드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로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의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ster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두대의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AVE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S-485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구성한후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ster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매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s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마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ave1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ave2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폴링하여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압한 데이터를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S-232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트를 통해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C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전송 한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 SLAVE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 통신마다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식 증가 한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(0-&gt;9999-&gt;0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* </a:t>
            </a:r>
            <a:r>
              <a:rPr b="0" lang="en-US" sz="1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Atmega128_Base_Ev1/Ev2 </a:t>
            </a:r>
            <a:r>
              <a:rPr b="0" lang="ko-KR" sz="1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용시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보드의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2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설정 점퍼를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J1)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S485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설정 한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14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5" name="직선 화살표 연결선 27"/>
          <p:cNvCxnSpPr/>
          <p:nvPr/>
        </p:nvCxnSpPr>
        <p:spPr>
          <a:xfrm flipH="1" flipV="1">
            <a:off x="1428480" y="342864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63"/>
          <p:cNvSpPr/>
          <p:nvPr/>
        </p:nvSpPr>
        <p:spPr>
          <a:xfrm>
            <a:off x="6215040" y="5214960"/>
            <a:ext cx="64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AVE 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64"/>
          <p:cNvSpPr/>
          <p:nvPr/>
        </p:nvSpPr>
        <p:spPr>
          <a:xfrm>
            <a:off x="5286240" y="300024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S-485 2</a:t>
            </a:r>
            <a:r>
              <a:rPr b="1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타원 30"/>
          <p:cNvSpPr/>
          <p:nvPr/>
        </p:nvSpPr>
        <p:spPr>
          <a:xfrm>
            <a:off x="3286080" y="3071880"/>
            <a:ext cx="142920" cy="4284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타원 31"/>
          <p:cNvSpPr/>
          <p:nvPr/>
        </p:nvSpPr>
        <p:spPr>
          <a:xfrm>
            <a:off x="6786720" y="4214880"/>
            <a:ext cx="357120" cy="142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0" name="직선 화살표 연결선 32"/>
          <p:cNvCxnSpPr/>
          <p:nvPr/>
        </p:nvCxnSpPr>
        <p:spPr>
          <a:xfrm flipV="1">
            <a:off x="3354840" y="35715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69"/>
          <p:cNvSpPr/>
          <p:nvPr/>
        </p:nvSpPr>
        <p:spPr>
          <a:xfrm>
            <a:off x="3022920" y="3929040"/>
            <a:ext cx="82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렬로 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R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저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70"/>
          <p:cNvSpPr/>
          <p:nvPr/>
        </p:nvSpPr>
        <p:spPr>
          <a:xfrm>
            <a:off x="7617240" y="4176720"/>
            <a:ext cx="82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렬로 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R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저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3" name="직선 화살표 연결선 35"/>
          <p:cNvCxnSpPr/>
          <p:nvPr/>
        </p:nvCxnSpPr>
        <p:spPr>
          <a:xfrm flipH="1" flipV="1">
            <a:off x="7214760" y="428544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80"/>
          <p:cNvSpPr/>
          <p:nvPr/>
        </p:nvSpPr>
        <p:spPr>
          <a:xfrm>
            <a:off x="500040" y="6000840"/>
            <a:ext cx="700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임피던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칭을 위해 선단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Master)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종단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lave 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마지막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각각 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0</a:t>
            </a:r>
            <a:r>
              <a:rPr b="0" lang="ko-KR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옴 저항을 설치 한다</a:t>
            </a:r>
            <a:r>
              <a:rPr b="0" lang="en-US" sz="9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08000" y="115920"/>
            <a:ext cx="4249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신 프로토콜 구성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C &lt;- Master &lt;-&gt; Slav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57120" y="5000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 P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신 규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C &lt;-&gt; Mast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ine 4"/>
          <p:cNvSpPr/>
          <p:nvPr/>
        </p:nvSpPr>
        <p:spPr>
          <a:xfrm>
            <a:off x="932040" y="33321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Line 5"/>
          <p:cNvSpPr/>
          <p:nvPr/>
        </p:nvSpPr>
        <p:spPr>
          <a:xfrm>
            <a:off x="3740040" y="33321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246560" y="3500280"/>
            <a:ext cx="1000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요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531800" y="4000680"/>
            <a:ext cx="1611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응답 데이터 전송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Cr+L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73120" y="754200"/>
            <a:ext cx="367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신 규정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RS-232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동기식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   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19200 Bp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페러티 비트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N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지 비트   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571680" y="304308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맑은 고딕"/>
              </a:rPr>
              <a:t>HOST(PC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3397320" y="304308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맑은 고딕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603760" y="33415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Line 5"/>
          <p:cNvSpPr/>
          <p:nvPr/>
        </p:nvSpPr>
        <p:spPr>
          <a:xfrm>
            <a:off x="7461360" y="33415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5310360" y="306864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맑은 고딕"/>
              </a:rPr>
              <a:t>Slave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104240" y="306864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맑은 고딕"/>
              </a:rPr>
              <a:t>Slave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8" name="직선 화살표 연결선 42"/>
          <p:cNvCxnSpPr/>
          <p:nvPr/>
        </p:nvCxnSpPr>
        <p:spPr>
          <a:xfrm>
            <a:off x="3746160" y="3714480"/>
            <a:ext cx="1857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직선 화살표 연결선 43"/>
          <p:cNvCxnSpPr/>
          <p:nvPr/>
        </p:nvCxnSpPr>
        <p:spPr>
          <a:xfrm flipH="1" flipV="1">
            <a:off x="3745800" y="3999960"/>
            <a:ext cx="1857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Rectangle 8"/>
          <p:cNvSpPr/>
          <p:nvPr/>
        </p:nvSpPr>
        <p:spPr>
          <a:xfrm>
            <a:off x="4246560" y="3786120"/>
            <a:ext cx="1000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응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1" name="직선 화살표 연결선 45"/>
          <p:cNvCxnSpPr/>
          <p:nvPr/>
        </p:nvCxnSpPr>
        <p:spPr>
          <a:xfrm flipH="1" flipV="1">
            <a:off x="888480" y="4214520"/>
            <a:ext cx="285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Rectangle 8"/>
          <p:cNvSpPr/>
          <p:nvPr/>
        </p:nvSpPr>
        <p:spPr>
          <a:xfrm>
            <a:off x="6103800" y="4214880"/>
            <a:ext cx="1000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요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3" name="직선 화살표 연결선 47"/>
          <p:cNvCxnSpPr/>
          <p:nvPr/>
        </p:nvCxnSpPr>
        <p:spPr>
          <a:xfrm>
            <a:off x="3746160" y="4428720"/>
            <a:ext cx="371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직선 화살표 연결선 48"/>
          <p:cNvCxnSpPr/>
          <p:nvPr/>
        </p:nvCxnSpPr>
        <p:spPr>
          <a:xfrm flipH="1" flipV="1">
            <a:off x="3745800" y="4714200"/>
            <a:ext cx="371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Rectangle 8"/>
          <p:cNvSpPr/>
          <p:nvPr/>
        </p:nvSpPr>
        <p:spPr>
          <a:xfrm>
            <a:off x="6103800" y="4500720"/>
            <a:ext cx="1000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응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6" name="직선 화살표 연결선 50"/>
          <p:cNvCxnSpPr/>
          <p:nvPr/>
        </p:nvCxnSpPr>
        <p:spPr>
          <a:xfrm flipH="1" flipV="1">
            <a:off x="888480" y="4927320"/>
            <a:ext cx="285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Text Box 3"/>
          <p:cNvSpPr/>
          <p:nvPr/>
        </p:nvSpPr>
        <p:spPr>
          <a:xfrm>
            <a:off x="358920" y="1571760"/>
            <a:ext cx="32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 Master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신 규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Master &lt;-&gt; Slav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74560" y="1825560"/>
            <a:ext cx="367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신 규정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RS-422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동기식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   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9600 Bp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페러티 비트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N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지 비트   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857240" y="3071880"/>
            <a:ext cx="9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COM1-RS23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183200" y="3071880"/>
            <a:ext cx="928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COM2-RS48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040440" y="3071880"/>
            <a:ext cx="9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COM2-RS48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531800" y="4714920"/>
            <a:ext cx="1611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응답 데이터 전송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Cr+L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"/>
          <p:cNvSpPr/>
          <p:nvPr/>
        </p:nvSpPr>
        <p:spPr>
          <a:xfrm>
            <a:off x="108000" y="115920"/>
            <a:ext cx="2863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신 프로토콜 사양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Rectangle 59"/>
          <p:cNvSpPr/>
          <p:nvPr/>
        </p:nvSpPr>
        <p:spPr>
          <a:xfrm>
            <a:off x="605160" y="500040"/>
            <a:ext cx="23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HOST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송 데이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C &lt;-  Mast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240"/>
          <p:cNvSpPr/>
          <p:nvPr/>
        </p:nvSpPr>
        <p:spPr>
          <a:xfrm>
            <a:off x="571680" y="867600"/>
            <a:ext cx="524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a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 받은 데이터 프레임에 줄바꿈을 추가하여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전송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 Slave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요구 응답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rame+ Cr + L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2560" y="1743120"/>
          <a:ext cx="3532320" cy="685800"/>
        </p:xfrm>
        <a:graphic>
          <a:graphicData uri="http://schemas.openxmlformats.org/drawingml/2006/table">
            <a:tbl>
              <a:tblPr/>
              <a:tblGrid>
                <a:gridCol w="603360"/>
                <a:gridCol w="714240"/>
                <a:gridCol w="714600"/>
                <a:gridCol w="714240"/>
                <a:gridCol w="7858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M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T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2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##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59"/>
          <p:cNvSpPr/>
          <p:nvPr/>
        </p:nvSpPr>
        <p:spPr>
          <a:xfrm>
            <a:off x="636840" y="1357200"/>
            <a:ext cx="250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Slave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요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Master -&gt; Slav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Rectangle 240"/>
          <p:cNvSpPr/>
          <p:nvPr/>
        </p:nvSpPr>
        <p:spPr>
          <a:xfrm>
            <a:off x="571680" y="2489040"/>
            <a:ext cx="551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X   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레임 시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2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UM   : SLAVE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’ - ‘2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MD  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요구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AND ‘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RC    : STX – CM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OR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형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CII(“00” – “FF”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TX   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레임 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3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3902040"/>
          <a:ext cx="4246560" cy="669960"/>
        </p:xfrm>
        <a:graphic>
          <a:graphicData uri="http://schemas.openxmlformats.org/drawingml/2006/table">
            <a:tbl>
              <a:tblPr/>
              <a:tblGrid>
                <a:gridCol w="603360"/>
                <a:gridCol w="714240"/>
                <a:gridCol w="714600"/>
                <a:gridCol w="785520"/>
                <a:gridCol w="714600"/>
                <a:gridCol w="7142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M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데이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T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2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999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##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59"/>
          <p:cNvSpPr/>
          <p:nvPr/>
        </p:nvSpPr>
        <p:spPr>
          <a:xfrm>
            <a:off x="666360" y="3546360"/>
            <a:ext cx="276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Slave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요구 응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Master  &lt;- Slav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240"/>
          <p:cNvSpPr/>
          <p:nvPr/>
        </p:nvSpPr>
        <p:spPr>
          <a:xfrm>
            <a:off x="571680" y="4591800"/>
            <a:ext cx="524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X   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레임 시작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2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UM   : SLAVE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’ - ‘2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MD  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요구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AND ‘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LAVE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 임의로 생성한 카운터 데이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000” – “9999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RC    : STX –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까지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OR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X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형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CII(“00” – “FF”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TX   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레임 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3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14:24Z</dcterms:created>
  <dc:creator>lck</dc:creator>
  <dc:description/>
  <dc:language>en-US</dc:language>
  <cp:lastModifiedBy>lck</cp:lastModifiedBy>
  <dcterms:modified xsi:type="dcterms:W3CDTF">2007-10-23T00:15:53Z</dcterms:modified>
  <cp:revision>1</cp:revision>
  <dc:subject/>
  <dc:title>슬라이드 1</dc:title>
</cp:coreProperties>
</file>