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7739-2BB7-41D3-9296-FCDF1BAA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22FE-182D-41F9-BEDE-3968C812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1696-DCCD-464A-8A3A-1089E11F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DF34-BDD3-46FA-829F-D145D910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C250-8B3A-4367-A187-3D7B41FD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EB8D-982A-4C0A-B928-3DFFC747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4E3B-CF79-44BD-8AEA-CD5091C9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3B43-3CEE-4983-A168-B7B1E8D6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AF47-9F64-4A81-879E-8CE67839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B648-1395-4EED-A51B-950FE3F4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B3AA-9D01-4E04-98D5-FF3905B2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C4C1-0814-4139-BCED-71D3C048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57F4-C2FC-4007-9DBA-2859FA0EA77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58920" y="909720"/>
          <a:ext cx="276840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909720"/>
                    <a:ext cx="276840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143080" y="5248440"/>
            <a:ext cx="115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굴림"/>
              </a:rPr>
              <a:t>TTL</a:t>
            </a:r>
            <a:r>
              <a:rPr b="0" lang="zh-CN" sz="800" spc="-1" strike="noStrike">
                <a:solidFill>
                  <a:srgbClr val="ff3300"/>
                </a:solidFill>
                <a:latin typeface="굴림"/>
              </a:rPr>
              <a:t>레벨 통신 포트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2914560" y="752400"/>
            <a:ext cx="4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3300"/>
                </a:solidFill>
                <a:latin typeface="굴림"/>
              </a:rPr>
              <a:t>IS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2114640" y="75240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3300"/>
                </a:solidFill>
                <a:latin typeface="굴림"/>
              </a:rPr>
              <a:t>전원</a:t>
            </a:r>
            <a:r>
              <a:rPr b="0" lang="en-US" sz="900" spc="-1" strike="noStrike">
                <a:solidFill>
                  <a:srgbClr val="ff3300"/>
                </a:solidFill>
                <a:latin typeface="굴림"/>
              </a:rPr>
              <a:t>DC5V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164772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ff3300"/>
                </a:solidFill>
                <a:latin typeface="굴림"/>
              </a:rPr>
              <a:t>리셋 </a:t>
            </a:r>
            <a:r>
              <a:rPr b="0" lang="ko-KR" sz="800" spc="-1" strike="noStrike">
                <a:solidFill>
                  <a:srgbClr val="ff3300"/>
                </a:solidFill>
                <a:latin typeface="굴림"/>
              </a:rPr>
              <a:t>S/W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2484360" y="2897280"/>
            <a:ext cx="5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굴림"/>
              </a:rPr>
              <a:t>CPU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12:09:28Z</dcterms:created>
  <dc:creator>lck</dc:creator>
  <dc:description/>
  <dc:language>en-US</dc:language>
  <cp:lastModifiedBy>lck</cp:lastModifiedBy>
  <dcterms:modified xsi:type="dcterms:W3CDTF">2007-12-23T13:43:00Z</dcterms:modified>
  <cp:revision>7</cp:revision>
  <dc:subject/>
  <dc:title>슬라이드 1</dc:title>
</cp:coreProperties>
</file>