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2AF-73B9-4EEF-B7BC-FEA168EC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219-3680-42B9-962A-A950DFC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FEC-63FC-4A60-B114-B2E87A9E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A05-6EE9-47FE-AFD9-5D33FDA7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FB3-857B-4C15-825F-FF7EAB62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73E-6CC0-49F6-9C5C-999B9AF9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2C2-848A-40C5-B83F-0C010F1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41E-BB38-4205-87D4-858BAF5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41E-CFA2-404E-87E7-A4D70B32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983-7929-4C71-9F19-2300427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12E-C0B5-4BE1-A029-9A35D01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343-5BD9-48C3-9194-CA31529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0485-DF57-46CD-A841-789E4697B3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907920"/>
          <a:ext cx="276372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07920"/>
                    <a:ext cx="276372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908000" y="5535720"/>
            <a:ext cx="11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굴림"/>
              </a:rPr>
              <a:t>RS232 </a:t>
            </a:r>
            <a:r>
              <a:rPr b="0" lang="zh-CN" sz="800" spc="-1" strike="noStrike">
                <a:solidFill>
                  <a:srgbClr val="ff3300"/>
                </a:solidFill>
                <a:latin typeface="굴림"/>
              </a:rPr>
              <a:t>통신 포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2625840" y="75240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3300"/>
                </a:solidFill>
                <a:latin typeface="굴림"/>
              </a:rPr>
              <a:t>IS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836720" y="752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3300"/>
                </a:solidFill>
                <a:latin typeface="굴림"/>
              </a:rPr>
              <a:t>전원</a:t>
            </a:r>
            <a:r>
              <a:rPr b="0" lang="en-US" sz="900" spc="-1" strike="noStrike">
                <a:solidFill>
                  <a:srgbClr val="ff3300"/>
                </a:solidFill>
                <a:latin typeface="굴림"/>
              </a:rPr>
              <a:t>DC5V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163044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ff3300"/>
                </a:solidFill>
                <a:latin typeface="굴림"/>
              </a:rPr>
              <a:t>리셋 </a:t>
            </a:r>
            <a:r>
              <a:rPr b="0" lang="ko-KR" sz="800" spc="-1" strike="noStrike">
                <a:solidFill>
                  <a:srgbClr val="ff3300"/>
                </a:solidFill>
                <a:latin typeface="굴림"/>
              </a:rPr>
              <a:t>S/W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278136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굴림"/>
              </a:rPr>
              <a:t>CP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2:09:28Z</dcterms:created>
  <dc:creator>lck</dc:creator>
  <dc:description/>
  <dc:language>en-US</dc:language>
  <cp:lastModifiedBy>lck</cp:lastModifiedBy>
  <dcterms:modified xsi:type="dcterms:W3CDTF">2007-12-23T13:54:59Z</dcterms:modified>
  <cp:revision>8</cp:revision>
  <dc:subject/>
  <dc:title>슬라이드 1</dc:title>
</cp:coreProperties>
</file>