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970-87ED-471E-9FE5-952C2E5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25A-B8D6-4A4D-87FC-53631644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E5A-0D05-4FF5-ACF5-5BD3EA59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25F-37DE-410D-BC34-04041790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9EA-A484-408D-823A-2927911D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7DB-EC27-4C49-8D1D-BEA26EF2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7711-32B4-4416-93F5-9304570F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C92-D269-46C5-98F3-474E549C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829-FEEB-4B1E-8912-7EBCC08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5E3B-981F-4FAD-8CB7-C174F84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653-89A1-45DD-B971-20F4A7C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796-C92D-4412-BD16-C1552DB4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C118-4C47-48CD-800B-105DE7C3F33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1" descr="D:\wincad\PCAD2002\CPUPLAZA\홈페이지\작업파일\avr보드\atmega128\ev1\Atmega128_Base_Ev1-02.jpg"/>
          <p:cNvPicPr/>
          <p:nvPr/>
        </p:nvPicPr>
        <p:blipFill>
          <a:blip r:embed="rId1"/>
          <a:stretch/>
        </p:blipFill>
        <p:spPr>
          <a:xfrm>
            <a:off x="2000160" y="2714760"/>
            <a:ext cx="1500120" cy="1500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08000" y="115920"/>
            <a:ext cx="2863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1. H/W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Picture 61" descr="D:\wincad\PCAD2002\CPUPLAZA\홈페이지\작업파일\avr보드\atmega128\ev1\Atmega128_Base_Ev1-02.jpg"/>
          <p:cNvPicPr/>
          <p:nvPr/>
        </p:nvPicPr>
        <p:blipFill>
          <a:blip r:embed="rId2"/>
          <a:stretch/>
        </p:blipFill>
        <p:spPr>
          <a:xfrm>
            <a:off x="4071960" y="414324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1" descr="D:\wincad\PCAD2002\CPUPLAZA\홈페이지\작업파일\avr보드\atmega128\ev1\Atmega128_Base_Ev1-02.jpg"/>
          <p:cNvPicPr/>
          <p:nvPr/>
        </p:nvPicPr>
        <p:blipFill>
          <a:blip r:embed="rId3"/>
          <a:stretch/>
        </p:blipFill>
        <p:spPr>
          <a:xfrm>
            <a:off x="6357960" y="4143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5" name="직선 연결선 7"/>
          <p:cNvSpPr/>
          <p:nvPr/>
        </p:nvSpPr>
        <p:spPr>
          <a:xfrm>
            <a:off x="3357720" y="3214800"/>
            <a:ext cx="5000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선 연결선 8"/>
          <p:cNvSpPr/>
          <p:nvPr/>
        </p:nvSpPr>
        <p:spPr>
          <a:xfrm>
            <a:off x="3357720" y="3355920"/>
            <a:ext cx="5000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선 연결선 9"/>
          <p:cNvSpPr/>
          <p:nvPr/>
        </p:nvSpPr>
        <p:spPr>
          <a:xfrm flipV="1">
            <a:off x="4642560" y="3214800"/>
            <a:ext cx="18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직선 연결선 10"/>
          <p:cNvSpPr/>
          <p:nvPr/>
        </p:nvSpPr>
        <p:spPr>
          <a:xfrm flipV="1">
            <a:off x="4714920" y="3358800"/>
            <a:ext cx="1440" cy="9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선 연결선 11"/>
          <p:cNvSpPr/>
          <p:nvPr/>
        </p:nvSpPr>
        <p:spPr>
          <a:xfrm flipV="1">
            <a:off x="6928560" y="3214800"/>
            <a:ext cx="180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선 연결선 12"/>
          <p:cNvSpPr/>
          <p:nvPr/>
        </p:nvSpPr>
        <p:spPr>
          <a:xfrm flipV="1">
            <a:off x="7000920" y="3357360"/>
            <a:ext cx="144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3368880" y="304488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3390480" y="319104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297680" y="40593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4666680" y="405936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6571080" y="40593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+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30"/>
          <p:cNvSpPr/>
          <p:nvPr/>
        </p:nvSpPr>
        <p:spPr>
          <a:xfrm>
            <a:off x="6952680" y="4060800"/>
            <a:ext cx="39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TRX-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TextBox 31"/>
          <p:cNvSpPr/>
          <p:nvPr/>
        </p:nvSpPr>
        <p:spPr>
          <a:xfrm>
            <a:off x="3857760" y="519912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SLAVE 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2286000" y="2857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보드 넘버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0’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Master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Box 44"/>
          <p:cNvSpPr/>
          <p:nvPr/>
        </p:nvSpPr>
        <p:spPr>
          <a:xfrm>
            <a:off x="42148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내부 카운터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“0000”-”9999”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Box 45"/>
          <p:cNvSpPr/>
          <p:nvPr/>
        </p:nvSpPr>
        <p:spPr>
          <a:xfrm>
            <a:off x="6500880" y="5500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내부 카운터</a:t>
            </a: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(“0000”-”9999”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" name="Picture 336" descr="컴퓨터"/>
          <p:cNvPicPr/>
          <p:nvPr/>
        </p:nvPicPr>
        <p:blipFill>
          <a:blip r:embed="rId4"/>
          <a:stretch/>
        </p:blipFill>
        <p:spPr>
          <a:xfrm>
            <a:off x="642960" y="3143160"/>
            <a:ext cx="792000" cy="671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3"/>
          <p:cNvSpPr/>
          <p:nvPr/>
        </p:nvSpPr>
        <p:spPr>
          <a:xfrm>
            <a:off x="1214280" y="34290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19200/N/8/1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Box 54"/>
          <p:cNvSpPr/>
          <p:nvPr/>
        </p:nvSpPr>
        <p:spPr>
          <a:xfrm>
            <a:off x="1500120" y="319896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RS-23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95280" y="476280"/>
            <a:ext cx="803448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tmega128L_Base_Ev1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또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대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와 두대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AVE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-485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구성한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ster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가 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00ms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마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ave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ave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를 폴링하여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취압한 데이터를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-232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포트를 통해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전송 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* SLAVE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매 통신마다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식 증가 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(0-&gt;9999-&gt;0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**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Atmega128L_Base_Ev1/Ev2 </a:t>
            </a:r>
            <a:r>
              <a:rPr b="0" lang="ko-KR" sz="1000" spc="-1" strike="noStrike">
                <a:solidFill>
                  <a:srgbClr val="ff0000"/>
                </a:solidFill>
                <a:latin typeface="굴림"/>
              </a:rPr>
              <a:t>사용시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보드의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2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설정 점퍼를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J1)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S485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로 설정 한다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5" name="직선 화살표 연결선 27"/>
          <p:cNvCxnSpPr/>
          <p:nvPr/>
        </p:nvCxnSpPr>
        <p:spPr>
          <a:xfrm flipH="1" flipV="1">
            <a:off x="1428480" y="342864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63"/>
          <p:cNvSpPr/>
          <p:nvPr/>
        </p:nvSpPr>
        <p:spPr>
          <a:xfrm>
            <a:off x="6215040" y="521496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SLAVE 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Box 64"/>
          <p:cNvSpPr/>
          <p:nvPr/>
        </p:nvSpPr>
        <p:spPr>
          <a:xfrm>
            <a:off x="5286240" y="300024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굴림"/>
              </a:rPr>
              <a:t>RS-485 2</a:t>
            </a:r>
            <a:r>
              <a:rPr b="1" lang="ko-KR" sz="900" spc="-1" strike="noStrike">
                <a:solidFill>
                  <a:srgbClr val="000000"/>
                </a:solidFill>
                <a:latin typeface="굴림"/>
              </a:rPr>
              <a:t>선식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타원 30"/>
          <p:cNvSpPr/>
          <p:nvPr/>
        </p:nvSpPr>
        <p:spPr>
          <a:xfrm>
            <a:off x="3286080" y="3071880"/>
            <a:ext cx="142920" cy="4284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타원 31"/>
          <p:cNvSpPr/>
          <p:nvPr/>
        </p:nvSpPr>
        <p:spPr>
          <a:xfrm>
            <a:off x="6786720" y="4214880"/>
            <a:ext cx="357120" cy="142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0" name="직선 화살표 연결선 32"/>
          <p:cNvCxnSpPr/>
          <p:nvPr/>
        </p:nvCxnSpPr>
        <p:spPr>
          <a:xfrm flipV="1">
            <a:off x="3354840" y="35715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69"/>
          <p:cNvSpPr/>
          <p:nvPr/>
        </p:nvSpPr>
        <p:spPr>
          <a:xfrm>
            <a:off x="3022920" y="3929040"/>
            <a:ext cx="82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병렬로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00R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저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70"/>
          <p:cNvSpPr/>
          <p:nvPr/>
        </p:nvSpPr>
        <p:spPr>
          <a:xfrm>
            <a:off x="7617240" y="4176720"/>
            <a:ext cx="823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병렬로 </a:t>
            </a: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100R </a:t>
            </a: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저항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3" name="직선 화살표 연결선 35"/>
          <p:cNvCxnSpPr/>
          <p:nvPr/>
        </p:nvCxnSpPr>
        <p:spPr>
          <a:xfrm flipH="1" flipV="1">
            <a:off x="7214760" y="4285440"/>
            <a:ext cx="357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TextBox 80"/>
          <p:cNvSpPr/>
          <p:nvPr/>
        </p:nvSpPr>
        <p:spPr>
          <a:xfrm>
            <a:off x="500040" y="6000840"/>
            <a:ext cx="700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*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임피던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매칭을 위해 선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Master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과 종단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(Slave 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마지막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에 각각 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100</a:t>
            </a:r>
            <a:r>
              <a:rPr b="0" lang="ko-KR" sz="900" spc="-1" strike="noStrike">
                <a:solidFill>
                  <a:srgbClr val="000000"/>
                </a:solidFill>
                <a:latin typeface="굴림"/>
              </a:rPr>
              <a:t>옴 저항을 설치 한다</a:t>
            </a:r>
            <a:r>
              <a:rPr b="0" lang="en-US" sz="9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08000" y="115920"/>
            <a:ext cx="4249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신 프로토콜 구성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PC &lt;- Master &lt;-&gt; Slav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57120" y="5000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 PC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신 규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PC &lt;-&gt; Mast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Line 4"/>
          <p:cNvSpPr/>
          <p:nvPr/>
        </p:nvSpPr>
        <p:spPr>
          <a:xfrm>
            <a:off x="932040" y="33321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Line 5"/>
          <p:cNvSpPr/>
          <p:nvPr/>
        </p:nvSpPr>
        <p:spPr>
          <a:xfrm>
            <a:off x="3740040" y="33321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246560" y="3500280"/>
            <a:ext cx="1000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 요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531800" y="4000680"/>
            <a:ext cx="161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응답 데이터 전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+Cr+L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73120" y="754200"/>
            <a:ext cx="367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통신 규정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RS-232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비동기식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데이터    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19200 Bp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페러티 비트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N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지 비트   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71680" y="30430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ST(PC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3397320" y="30430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st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603760" y="3341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461360" y="33415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5310360" y="306864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ave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04240" y="306864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ave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8" name="직선 화살표 연결선 42"/>
          <p:cNvCxnSpPr/>
          <p:nvPr/>
        </p:nvCxnSpPr>
        <p:spPr>
          <a:xfrm>
            <a:off x="3746160" y="3714480"/>
            <a:ext cx="1857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직선 화살표 연결선 43"/>
          <p:cNvCxnSpPr/>
          <p:nvPr/>
        </p:nvCxnSpPr>
        <p:spPr>
          <a:xfrm flipH="1" flipV="1">
            <a:off x="3745800" y="3999960"/>
            <a:ext cx="1857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Rectangle 8"/>
          <p:cNvSpPr/>
          <p:nvPr/>
        </p:nvSpPr>
        <p:spPr>
          <a:xfrm>
            <a:off x="4246560" y="3786120"/>
            <a:ext cx="1000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 응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1" name="직선 화살표 연결선 45"/>
          <p:cNvCxnSpPr/>
          <p:nvPr/>
        </p:nvCxnSpPr>
        <p:spPr>
          <a:xfrm flipH="1" flipV="1">
            <a:off x="888480" y="42145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Rectangle 8"/>
          <p:cNvSpPr/>
          <p:nvPr/>
        </p:nvSpPr>
        <p:spPr>
          <a:xfrm>
            <a:off x="6103800" y="4214880"/>
            <a:ext cx="100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 요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3" name="직선 화살표 연결선 47"/>
          <p:cNvCxnSpPr/>
          <p:nvPr/>
        </p:nvCxnSpPr>
        <p:spPr>
          <a:xfrm>
            <a:off x="3746160" y="4428720"/>
            <a:ext cx="371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직선 화살표 연결선 48"/>
          <p:cNvCxnSpPr/>
          <p:nvPr/>
        </p:nvCxnSpPr>
        <p:spPr>
          <a:xfrm flipH="1" flipV="1">
            <a:off x="3745800" y="4714200"/>
            <a:ext cx="371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Rectangle 8"/>
          <p:cNvSpPr/>
          <p:nvPr/>
        </p:nvSpPr>
        <p:spPr>
          <a:xfrm>
            <a:off x="6103800" y="4500720"/>
            <a:ext cx="1000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데이터 응답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6" name="직선 화살표 연결선 50"/>
          <p:cNvCxnSpPr/>
          <p:nvPr/>
        </p:nvCxnSpPr>
        <p:spPr>
          <a:xfrm flipH="1" flipV="1">
            <a:off x="888480" y="49273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 Box 3"/>
          <p:cNvSpPr/>
          <p:nvPr/>
        </p:nvSpPr>
        <p:spPr>
          <a:xfrm>
            <a:off x="358920" y="1571760"/>
            <a:ext cx="32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 Master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통신 규약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Master &lt;-&gt;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74560" y="1825560"/>
            <a:ext cx="3673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통신 규정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RS-422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비동기식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데이터    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9600 Bp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페러티 비트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N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100" spc="-1" strike="noStrike">
                <a:solidFill>
                  <a:srgbClr val="000000"/>
                </a:solidFill>
                <a:latin typeface="굴림"/>
              </a:rPr>
              <a:t>정지 비트    </a:t>
            </a: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: 1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1857240" y="3071880"/>
            <a:ext cx="9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굴림"/>
              </a:rPr>
              <a:t>COM1-RS232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183200" y="3071880"/>
            <a:ext cx="928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굴림"/>
              </a:rPr>
              <a:t>COM2-RS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040440" y="3071880"/>
            <a:ext cx="92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굴림"/>
              </a:rPr>
              <a:t>COM2-RS48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531800" y="4714920"/>
            <a:ext cx="161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응답 데이터 전송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+Cr+L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3"/>
          <p:cNvSpPr/>
          <p:nvPr/>
        </p:nvSpPr>
        <p:spPr>
          <a:xfrm>
            <a:off x="108000" y="115920"/>
            <a:ext cx="28638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통신 프로토콜 사양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59"/>
          <p:cNvSpPr/>
          <p:nvPr/>
        </p:nvSpPr>
        <p:spPr>
          <a:xfrm>
            <a:off x="605160" y="500040"/>
            <a:ext cx="23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. HOST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송 데이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PC &lt;-  Master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240"/>
          <p:cNvSpPr/>
          <p:nvPr/>
        </p:nvSpPr>
        <p:spPr>
          <a:xfrm>
            <a:off x="571680" y="867600"/>
            <a:ext cx="524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av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받은 데이터 프레임에 줄바꿈을 추가하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C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 전송한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Slav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요구 응답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rame+ Cr + Lf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2560" y="1743120"/>
          <a:ext cx="3532320" cy="685800"/>
        </p:xfrm>
        <a:graphic>
          <a:graphicData uri="http://schemas.openxmlformats.org/drawingml/2006/table">
            <a:tbl>
              <a:tblPr/>
              <a:tblGrid>
                <a:gridCol w="603360"/>
                <a:gridCol w="714240"/>
                <a:gridCol w="714600"/>
                <a:gridCol w="714240"/>
                <a:gridCol w="7858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##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59"/>
          <p:cNvSpPr/>
          <p:nvPr/>
        </p:nvSpPr>
        <p:spPr>
          <a:xfrm>
            <a:off x="636840" y="1357200"/>
            <a:ext cx="250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. Slav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요구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Master -&gt;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240"/>
          <p:cNvSpPr/>
          <p:nvPr/>
        </p:nvSpPr>
        <p:spPr>
          <a:xfrm>
            <a:off x="571680" y="2489040"/>
            <a:ext cx="551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TX 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레임 시작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2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UM   : SLAV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‘1’ - ‘2’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MD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요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MMAND ‘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RC    : STX – CMD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까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OR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E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SCII(“00” – “FF”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TX 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레임 끝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3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3902040"/>
          <a:ext cx="4246560" cy="669960"/>
        </p:xfrm>
        <a:graphic>
          <a:graphicData uri="http://schemas.openxmlformats.org/drawingml/2006/table">
            <a:tbl>
              <a:tblPr/>
              <a:tblGrid>
                <a:gridCol w="603360"/>
                <a:gridCol w="714240"/>
                <a:gridCol w="714600"/>
                <a:gridCol w="785520"/>
                <a:gridCol w="714600"/>
                <a:gridCol w="7142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데이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T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02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999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##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Rectangle 59"/>
          <p:cNvSpPr/>
          <p:nvPr/>
        </p:nvSpPr>
        <p:spPr>
          <a:xfrm>
            <a:off x="666360" y="3546360"/>
            <a:ext cx="276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. Slav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요구 응답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Master  &lt;- Slave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240"/>
          <p:cNvSpPr/>
          <p:nvPr/>
        </p:nvSpPr>
        <p:spPr>
          <a:xfrm>
            <a:off x="571680" y="4591800"/>
            <a:ext cx="5248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TX 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레임 시작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2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UM   : SLAVE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번호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‘1’ - ‘2’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MD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요구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MMAND ‘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각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LAVE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에서 임의로 생성한 카운터 데이터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000” – “9999”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RC    : STX –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까지의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XOR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데이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EX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형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SCII(“00” – “FF”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r" pos="507960"/>
                <a:tab algn="ctr" pos="2700360"/>
                <a:tab algn="r" pos="5400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TX    :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프레임 끝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03H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14:24Z</dcterms:created>
  <dc:creator>lck</dc:creator>
  <dc:description/>
  <dc:language>en-US</dc:language>
  <cp:lastModifiedBy>lck</cp:lastModifiedBy>
  <dcterms:modified xsi:type="dcterms:W3CDTF">2007-12-22T02:42:20Z</dcterms:modified>
  <cp:revision>7</cp:revision>
  <dc:subject/>
  <dc:title>슬라이드 1</dc:title>
</cp:coreProperties>
</file>